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CFA3-229F-4F0E-8574-07AD0D01C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546F-A2D0-425A-B5DD-624F7BAF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AFED-2008-4583-AD33-278772C0B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D699-E3AD-4DC7-8923-6E96CCCCA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D1ED-D5A6-414B-990A-F2744869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0CEE-BBB7-48C1-9FBF-DA6A27D7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1678-ED38-403B-A3AC-D972CC4B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4F73-6D2E-4F9D-A330-11363FCC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7023-2997-46FB-9F75-867FBDFC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1AF2-2A99-4FCA-9C9E-538C2E68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034A-ED40-4F35-9DAD-8827E857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AEBA-FB18-4079-93A7-D1B949F2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3D86-CDC6-4214-8678-BADD76130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Getting to know your teach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0" y="1676520"/>
            <a:ext cx="4581360" cy="21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Kristen ITC"/>
              </a:rPr>
              <a:t>Ms. Mosiman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Kristen ITC"/>
              <a:ea typeface="Kristen ITC"/>
            </a:endParaRPr>
          </a:p>
        </p:txBody>
      </p:sp>
      <p:sp>
        <p:nvSpPr>
          <p:cNvPr id="43" name=""/>
          <p:cNvSpPr/>
          <p:nvPr/>
        </p:nvSpPr>
        <p:spPr>
          <a:xfrm>
            <a:off x="6384960" y="3846600"/>
            <a:ext cx="138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oper Black"/>
              </a:rPr>
              <a:t>My Graduation Day from Friends this summ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71800" y="3733920"/>
            <a:ext cx="3225960" cy="2419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867280" y="4572000"/>
            <a:ext cx="2616480" cy="1798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 rot="20448600">
            <a:off x="934560" y="48466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All About M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I am the oldest of 4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I graduated from High School in 2000 from Sedgwick H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I went to KU for a about 3 months and then moved back home to go to school at Wichita State where I received my Bachelor of Arts in te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I recently graduated AGAIN from Friends University with my Masters of Arts in Teaching!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2630520" cy="3505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My Famil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I am 26 years old and I am the small one in the 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The big tall, hairy guy in the back is my 25 year old brother, Ty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The pretty blonde in the front is 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19 year old sister,Taw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The youngest is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boy in the front.  That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Tanner and he’s 1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My parents, Ma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and Karen are b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51 years old, but th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aren’t in this pi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315200" y="1066680"/>
            <a:ext cx="110016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812880" cy="8384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My Hobbi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I like to read when I hav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I LOVE TO SHO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I enjoy relaxing in front of the t.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I love watching KU basket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I like to work out at the gy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I truly love spending time with my family and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648320" y="5105520"/>
            <a:ext cx="2133360" cy="1600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1600200" cy="12002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9880" y="4800600"/>
            <a:ext cx="1384560" cy="17524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Life as a Tea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Teaching keeps me very busy!  I really enjoy getting to know all of my students and sharing stories about when I was litt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This is my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Kristen ITC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 year teaching here at Dodge.  I taught third grade before moving down to second.  After teaching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Kristen ITC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 for three years, I can honestly say that it’s definitely my favori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Welcome to my classroom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 rot="21220800">
            <a:off x="-837720" y="1523880"/>
            <a:ext cx="963936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Kristen ITC"/>
              </a:rPr>
              <a:t>It's going to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Kristen ITC"/>
              </a:rPr>
              <a:t> </a:t>
            </a: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Kristen ITC"/>
              </a:rPr>
              <a:t>be a GREAT year!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Kristen ITC"/>
              <a:ea typeface="Kristen ITC"/>
            </a:endParaRPr>
          </a:p>
        </p:txBody>
      </p:sp>
    </p:spTree>
  </p:cSld>
  <p:transition spd="med" advTm="15000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4T03:18:35Z</dcterms:created>
  <dc:creator>wps</dc:creator>
  <dc:description/>
  <dc:language>en-US</dc:language>
  <cp:lastModifiedBy>wps</cp:lastModifiedBy>
  <dcterms:modified xsi:type="dcterms:W3CDTF">2008-08-12T15:16:44Z</dcterms:modified>
  <cp:revision>11</cp:revision>
  <dc:subject/>
  <dc:title>Getting to know your teacher…</dc:title>
</cp:coreProperties>
</file>