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B64E0-D9CE-49E6-9D59-045F6D2A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962C-0910-4F10-A052-31645271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D6CF-FC20-44D4-82D5-7787DD445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465C-332A-4150-88DF-11327546C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9C779-A974-4D66-94EC-5FB1CAA93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DE8A-0C63-438A-8B97-9D948BBC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AA67-D340-4537-B797-83C61E48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7038-3D89-4817-BD9E-D6B34906D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74FC-9C59-45E2-B1FB-E6C5570D3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A90-C7FE-4E6F-8153-3004B7090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6C57-FE47-47D7-A8F8-35DE3AA4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E938-FF23-4572-8AEB-3D76DA8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059EF-B42C-438B-8443-533C0C03C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Getting to know your teac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1676520"/>
            <a:ext cx="458136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risten ITC"/>
              </a:rPr>
              <a:t>Ms. Mosima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risten ITC"/>
              <a:ea typeface="Kristen ITC"/>
            </a:endParaRPr>
          </a:p>
        </p:txBody>
      </p:sp>
      <p:sp>
        <p:nvSpPr>
          <p:cNvPr id="43" name=""/>
          <p:cNvSpPr/>
          <p:nvPr/>
        </p:nvSpPr>
        <p:spPr>
          <a:xfrm>
            <a:off x="6384960" y="384660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oper Black"/>
              </a:rPr>
              <a:t>My Graduation Day from Friends this summ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225960" cy="2419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2616480" cy="179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0448600">
            <a:off x="934560" y="4846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All About 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am the oldest of 4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graduated from High School in 2000 from Sedgwick H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went to KU for a about 3 months and then moved back home to go to school at Wichita State where I received my Bachelor of Arts in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recently graduated AGAIN from Friends University with my Masters of Arts in Teaching!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26305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Fami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I am 26 years old and I am the small one in th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big tall, hairy guy in the back is my 25 year old brother, Ty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pretty blonde in the front is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19 year old sister,Taw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younge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boy in the front.  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anner and he’s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My parents, M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nd Karen are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51 years old, but 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ren’t in this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106668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812880" cy="838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Hobb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read when I hav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TO SH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enjoy relaxing in front of the t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watching KU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work out at the g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truly love spending time with my family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845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Life as a 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ing keeps me very busy!  I really enjoy getting to know all of my students and sharing stories about when I was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is my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year teaching here at Dodge.  I taught third grade before moving down to second.  After teaching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for three years, I can honestly say that it’s definitely my favor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elcome to my classroo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1220800">
            <a:off x="-837720" y="1523880"/>
            <a:ext cx="96393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It's going t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be a GREAT year!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</p:txBody>
      </p:sp>
    </p:spTree>
  </p:cSld>
  <p:transition spd="med" advTm="15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3:18:35Z</dcterms:created>
  <dc:creator>wps</dc:creator>
  <dc:description/>
  <dc:language>en-US</dc:language>
  <cp:lastModifiedBy>wps</cp:lastModifiedBy>
  <dcterms:modified xsi:type="dcterms:W3CDTF">2008-08-12T15:16:44Z</dcterms:modified>
  <cp:revision>11</cp:revision>
  <dc:subject/>
  <dc:title>Getting to know your teacher…</dc:title>
</cp:coreProperties>
</file>