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C6B-1847-49AB-97CA-AD7BFD29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F42-C61E-4751-8146-FA7D7A9F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6EF-273B-4478-B240-D4823210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51E-7364-49C7-B066-108B8EE6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F37-FA6A-44FC-8063-ABF52B0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2B3-B452-4B14-A68F-83451BF5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1DD-E5B3-47A0-A025-265B7611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99E-4499-4B94-8C66-978E41CD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3DF-6D87-4AAE-9D70-B2D0A70A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FBC-9675-4DC3-9A0B-BE5C39CC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A73-CF7B-46CF-920C-BF2A8D0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7E4-F516-4004-B712-0FA2460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7A8-CC27-45DB-9E58-217117FFF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Getting to know your teac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1676520"/>
            <a:ext cx="458136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risten ITC"/>
              </a:rPr>
              <a:t>Ms. Mosima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risten ITC"/>
              <a:ea typeface="Kristen ITC"/>
            </a:endParaRPr>
          </a:p>
        </p:txBody>
      </p:sp>
      <p:sp>
        <p:nvSpPr>
          <p:cNvPr id="43" name=""/>
          <p:cNvSpPr/>
          <p:nvPr/>
        </p:nvSpPr>
        <p:spPr>
          <a:xfrm>
            <a:off x="6384960" y="384660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oper Black"/>
              </a:rPr>
              <a:t>My Graduation Day from Friends this summ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2616480" cy="179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0448600">
            <a:off x="934560" y="4846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All About 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am the oldest of 4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graduated from High School in 2000 from Sedgwick H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went to KU for a about 3 months and then moved back home to go to school at Wichita State where I received my Bachelor of Arts in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recently graduated AGAIN from Friends University with my Masters of Arts in Teaching!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26305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Fami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I am 26 years old and I am the small one in th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big tall, hairy guy in the back is my 25 year old brother, Ty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pretty blonde in the front is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19 year old sister,Taw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younge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boy in the front.  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anner and he’s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My parents, M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nd Karen are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51 years old, but 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ren’t in this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106668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812880" cy="83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Hobb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read when I hav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TO SH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enjoy relaxing in front of the t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watching KU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work out at the g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truly love spending time with my family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845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Life as a 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ing keeps me very busy!  I really enjoy getting to know all of my students and sharing stories about when I was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is my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year teaching here at Dodge.  I taught third grade before moving down to second.  After teach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for three years, I can honestly say that it’s definitely my favo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elcome to my classr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220800">
            <a:off x="-837720" y="1523880"/>
            <a:ext cx="96393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It's going t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be a GREAT year!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</p:txBody>
      </p:sp>
    </p:spTree>
  </p:cSld>
  <p:transition spd="med" advTm="15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3:18:35Z</dcterms:created>
  <dc:creator>wps</dc:creator>
  <dc:description/>
  <dc:language>en-US</dc:language>
  <cp:lastModifiedBy>wps</cp:lastModifiedBy>
  <dcterms:modified xsi:type="dcterms:W3CDTF">2008-08-12T15:16:44Z</dcterms:modified>
  <cp:revision>11</cp:revision>
  <dc:subject/>
  <dc:title>Getting to know your teacher…</dc:title>
</cp:coreProperties>
</file>