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</p:sldIdLst>
  <p:sldSz cx="9144000" cy="6858000"/>
  <p:notesSz cx="6858000" cy="9144000"/>
  <p:custShowLst>
    <p:custShow name="Custom Show 1" id="0">
      <p:sldLst>
        <p:sld r:id="rId3"/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13"/>
        <p:sld r:id="rId14"/>
        <p:sld r:id="rId15"/>
        <p:sld r:id="rId16"/>
        <p:sld r:id="rId17"/>
        <p:sld r:id="rId18"/>
        <p:sld r:id="rId19"/>
        <p:sld r:id="rId20"/>
        <p:sld r:id="rId21"/>
        <p:sld r:id="rId22"/>
        <p:sld r:id="rId23"/>
        <p:sld r:id="rId24"/>
        <p:sld r:id="rId25"/>
        <p:sld r:id="rId26"/>
        <p:sld r:id="rId27"/>
        <p:sld r:id="rId28"/>
        <p:sld r:id="rId29"/>
        <p:sld r:id="rId30"/>
        <p:sld r:id="rId31"/>
        <p:sld r:id="rId32"/>
        <p:sld r:id="rId33"/>
        <p:sld r:id="rId34"/>
        <p:sld r:id="rId35"/>
        <p:sld r:id="rId36"/>
        <p:sld r:id="rId37"/>
        <p:sld r:id="rId38"/>
        <p:sld r:id="rId39"/>
        <p:sld r:id="rId40"/>
        <p:sld r:id="rId41"/>
        <p:sld r:id="rId42"/>
        <p:sld r:id="rId43"/>
        <p:sld r:id="rId44"/>
        <p:sld r:id="rId45"/>
        <p:sld r:id="rId46"/>
        <p:sld r:id="rId47"/>
        <p:sld r:id="rId48"/>
        <p:sld r:id="rId49"/>
        <p:sld r:id="rId50"/>
        <p:sld r:id="rId51"/>
        <p:sld r:id="rId52"/>
        <p:sld r:id="rId53"/>
        <p:sld r:id="rId54"/>
        <p:sld r:id="rId55"/>
        <p:sld r:id="rId56"/>
        <p:sld r:id="rId57"/>
        <p:sld r:id="rId58"/>
        <p:sld r:id="rId59"/>
        <p:sld r:id="rId60"/>
        <p:sld r:id="rId61"/>
        <p:sld r:id="rId62"/>
        <p:sld r:id="rId63"/>
        <p:sld r:id="rId64"/>
        <p:sld r:id="rId65"/>
        <p:sld r:id="rId66"/>
        <p:sld r:id="rId67"/>
        <p:sld r:id="rId68"/>
        <p:sld r:id="rId69"/>
        <p:sld r:id="rId70"/>
        <p:sld r:id="rId71"/>
        <p:sld r:id="rId72"/>
        <p:sld r:id="rId73"/>
        <p:sld r:id="rId74"/>
        <p:sld r:id="rId75"/>
        <p:sld r:id="rId76"/>
        <p:sld r:id="rId77"/>
        <p:sld r:id="rId78"/>
        <p:sld r:id="rId79"/>
        <p:sld r:id="rId80"/>
        <p:sld r:id="rId81"/>
        <p:sld r:id="rId82"/>
        <p:sld r:id="rId83"/>
        <p:sld r:id="rId84"/>
        <p:sld r:id="rId85"/>
        <p:sld r:id="rId86"/>
        <p:sld r:id="rId87"/>
        <p:sld r:id="rId88"/>
        <p:sld r:id="rId89"/>
        <p:sld r:id="rId90"/>
        <p:sld r:id="rId91"/>
        <p:sld r:id="rId92"/>
        <p:sld r:id="rId93"/>
        <p:sld r:id="rId94"/>
        <p:sld r:id="rId95"/>
        <p:sld r:id="rId96"/>
        <p:sld r:id="rId97"/>
        <p:sld r:id="rId98"/>
        <p:sld r:id="rId99"/>
        <p:sld r:id="rId100"/>
        <p:sld r:id="rId101"/>
        <p:sld r:id="rId102"/>
        <p:sld r:id="rId103"/>
        <p:sld r:id="rId104"/>
        <p:sld r:id="rId105"/>
        <p:sld r:id="rId106"/>
        <p:sld r:id="rId107"/>
        <p:sld r:id="rId108"/>
        <p:sld r:id="rId109"/>
        <p:sld r:id="rId110"/>
        <p:sld r:id="rId111"/>
        <p:sld r:id="rId112"/>
        <p:sld r:id="rId113"/>
        <p:sld r:id="rId11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9D8B-3203-43CD-A3B9-E85C6A649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5AB6-7BE8-4678-B8CE-3F3A24D0D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B56A-4A07-4116-BA33-646D80C00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1EC8-B193-4D03-A6A0-968CC19AD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EFFC-04D1-44AA-806E-C517B0669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9760-BFD7-428C-815B-ADBFA15EC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BAF2-AB8D-4384-A6D3-D8C110413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5C05-003D-485A-967A-AF72E95AE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1391-F6B6-461B-9358-3EC9FC3DB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32D8-44CD-48A7-A45A-4A293046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3D71-201F-48DE-B4AF-3E965935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4FA7-3CD8-4672-8923-0B57C83C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9C9E5-AFAC-457A-B772-FAB47EBE43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Second Grade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alibri"/>
              </a:rPr>
              <a:t>Sight Word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America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under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warm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well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why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work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worl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wor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wrong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wrot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animal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year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you’r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722160" y="1523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Wow, you did it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3" descr="C:\Documents and Settings\sriley\Local Settings\Temporary Internet Files\Content.IE5\ZEBZWW4O\MCj04298030000[1].wmf"/>
          <p:cNvPicPr/>
          <p:nvPr/>
        </p:nvPicPr>
        <p:blipFill>
          <a:blip r:embed="rId1"/>
          <a:stretch/>
        </p:blipFill>
        <p:spPr>
          <a:xfrm>
            <a:off x="3581280" y="4495680"/>
            <a:ext cx="1413000" cy="1793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another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any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aroun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ask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becaus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befor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begi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abov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behin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bes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boy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catch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chang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childre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differen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doe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ea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acros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eve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every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fas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feel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follow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form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foun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friend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gav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giv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agai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go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grea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han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help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high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hom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hous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I’m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it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jump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ago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kin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knew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know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lan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larg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las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lear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le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letter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lin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air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liv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lov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me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mos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mother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mov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much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mus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nee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almos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never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off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only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pag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pictur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plac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poin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rea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sam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also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school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secon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sentenc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se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shoul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show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sleep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small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soun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spell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alway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still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study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such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tak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tell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thing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think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thir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through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try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1:42:11Z</dcterms:created>
  <dc:creator>Wichita Public Schools</dc:creator>
  <dc:description/>
  <dc:language>en-US</dc:language>
  <cp:lastModifiedBy>wps</cp:lastModifiedBy>
  <dcterms:modified xsi:type="dcterms:W3CDTF">2008-09-18T14:14:16Z</dcterms:modified>
  <cp:revision>12</cp:revision>
  <dc:subject/>
  <dc:title>Slide 1</dc:title>
</cp:coreProperties>
</file>