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</p:sldIdLst>
  <p:sldSz cx="9144000" cy="6858000"/>
  <p:notesSz cx="6858000" cy="9144000"/>
  <p:custShowLst>
    <p:custShow name="Custom Show 1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  <p:sld r:id="rId65"/>
        <p:sld r:id="rId66"/>
        <p:sld r:id="rId67"/>
        <p:sld r:id="rId68"/>
        <p:sld r:id="rId69"/>
        <p:sld r:id="rId70"/>
        <p:sld r:id="rId71"/>
        <p:sld r:id="rId72"/>
        <p:sld r:id="rId73"/>
        <p:sld r:id="rId74"/>
        <p:sld r:id="rId75"/>
        <p:sld r:id="rId76"/>
        <p:sld r:id="rId77"/>
        <p:sld r:id="rId78"/>
        <p:sld r:id="rId79"/>
        <p:sld r:id="rId80"/>
        <p:sld r:id="rId81"/>
        <p:sld r:id="rId82"/>
        <p:sld r:id="rId83"/>
        <p:sld r:id="rId84"/>
        <p:sld r:id="rId85"/>
        <p:sld r:id="rId86"/>
        <p:sld r:id="rId87"/>
        <p:sld r:id="rId88"/>
        <p:sld r:id="rId89"/>
        <p:sld r:id="rId90"/>
        <p:sld r:id="rId91"/>
        <p:sld r:id="rId92"/>
        <p:sld r:id="rId93"/>
        <p:sld r:id="rId94"/>
        <p:sld r:id="rId95"/>
        <p:sld r:id="rId96"/>
        <p:sld r:id="rId97"/>
        <p:sld r:id="rId98"/>
        <p:sld r:id="rId99"/>
        <p:sld r:id="rId100"/>
        <p:sld r:id="rId101"/>
        <p:sld r:id="rId102"/>
        <p:sld r:id="rId103"/>
        <p:sld r:id="rId104"/>
        <p:sld r:id="rId105"/>
        <p:sld r:id="rId106"/>
        <p:sld r:id="rId107"/>
        <p:sld r:id="rId108"/>
        <p:sld r:id="rId109"/>
        <p:sld r:id="rId110"/>
        <p:sld r:id="rId111"/>
        <p:sld r:id="rId112"/>
        <p:sld r:id="rId113"/>
        <p:sld r:id="rId1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286E-DCB8-49D9-851D-B39EDD40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6BE-1D5B-4BE5-A5DE-1FC3453E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5DA-0785-4DDC-A4CE-583D241B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8A70-F46A-480E-8F34-39A2A656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6953-64C3-4F3E-881E-735B62D4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4273-6F3C-4B62-A2EC-F2061037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4ED-6DE3-4B6C-B59D-86D59B68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940-C73F-42BC-8C03-AD1B667A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3219-EDA2-43F5-B731-E4A019D6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07E-7AD5-4AE3-AE30-D9520CE0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4D4A-9510-482B-B1BF-C4B44E89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E4BF-8DDD-4604-963A-15D14E5A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B6CF-4652-4F94-AFA4-245F1BF31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cond Grade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Sight Word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meric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und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ar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e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orl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or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rot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ima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yea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you’r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22160" y="1523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Wow, you did it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3" descr="C:\Documents and Settings\sriley\Local Settings\Temporary Internet Files\Content.IE5\ZEBZWW4O\MCj04298030000[1].wmf"/>
          <p:cNvPicPr/>
          <p:nvPr/>
        </p:nvPicPr>
        <p:blipFill>
          <a:blip r:embed="rId1"/>
          <a:stretch/>
        </p:blipFill>
        <p:spPr>
          <a:xfrm>
            <a:off x="3581280" y="4495680"/>
            <a:ext cx="1413000" cy="179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oth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rou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s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for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bo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hi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o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catc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chan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childr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do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a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cros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v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ver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ee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ollo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or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ou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riend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a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i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gai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o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rea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a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el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ous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I’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i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jum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g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ki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kne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kno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a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ar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a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ear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e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ett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in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i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i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o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o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oth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uc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u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ne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lmo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nev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of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onl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a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oin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ls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choo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co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nten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ho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lee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pe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lway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ti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tud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uc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ak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e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in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ir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roug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r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1:42:11Z</dcterms:created>
  <dc:creator>Wichita Public Schools</dc:creator>
  <dc:description/>
  <dc:language>en-US</dc:language>
  <cp:lastModifiedBy>wps</cp:lastModifiedBy>
  <dcterms:modified xsi:type="dcterms:W3CDTF">2008-09-18T14:14:16Z</dcterms:modified>
  <cp:revision>12</cp:revision>
  <dc:subject/>
  <dc:title>Slide 1</dc:title>
</cp:coreProperties>
</file>