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  <p:sld r:id="rId82"/>
        <p:sld r:id="rId83"/>
        <p:sld r:id="rId84"/>
        <p:sld r:id="rId85"/>
        <p:sld r:id="rId86"/>
        <p:sld r:id="rId87"/>
        <p:sld r:id="rId88"/>
        <p:sld r:id="rId89"/>
        <p:sld r:id="rId90"/>
        <p:sld r:id="rId91"/>
        <p:sld r:id="rId92"/>
        <p:sld r:id="rId93"/>
        <p:sld r:id="rId94"/>
        <p:sld r:id="rId95"/>
        <p:sld r:id="rId96"/>
        <p:sld r:id="rId97"/>
        <p:sld r:id="rId98"/>
        <p:sld r:id="rId99"/>
        <p:sld r:id="rId100"/>
        <p:sld r:id="rId101"/>
        <p:sld r:id="rId102"/>
        <p:sld r:id="rId103"/>
        <p:sld r:id="rId104"/>
        <p:sld r:id="rId105"/>
        <p:sld r:id="rId106"/>
        <p:sld r:id="rId107"/>
        <p:sld r:id="rId108"/>
        <p:sld r:id="rId109"/>
        <p:sld r:id="rId110"/>
        <p:sld r:id="rId111"/>
        <p:sld r:id="rId112"/>
        <p:sld r:id="rId113"/>
        <p:sld r:id="rId1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6DF9-7C31-4405-B78B-D9DE9627E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EFD6-1642-4EF9-906A-B1A49A1E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60E2-5B92-40E3-A8CB-259A67CB8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29E4-261A-4EF5-B8C1-4C20A6F6F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65F5-3045-4DAB-8EE0-601A38A0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30F5-2082-4C53-AEF7-569E159C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A6A3-F1E5-4378-8D4F-317961D1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AEE9-CF3C-45E8-BCE5-1BC00516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2B6E-24B8-4350-8A4C-91E8B0B3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136E-A77E-4DA5-8FB2-13C69FCD0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0A13-D3EB-4727-9F91-DA5B056D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CA9-3B6A-44EC-88E1-F43C05C51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D1ABF-1764-4AB4-A02F-19F4D0B8C8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cond Grade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Sight Word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meric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und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ar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rot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you’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2216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Wow, you did it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C:\Documents and Settings\sriley\Local Settings\Temporary Internet Files\Content.IE5\ZEBZWW4O\MCj04298030000[1].wmf"/>
          <p:cNvPicPr/>
          <p:nvPr/>
        </p:nvPicPr>
        <p:blipFill>
          <a:blip r:embed="rId1"/>
          <a:stretch/>
        </p:blipFill>
        <p:spPr>
          <a:xfrm>
            <a:off x="3581280" y="4495680"/>
            <a:ext cx="1413000" cy="179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oth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r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s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fo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hi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o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at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han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hildr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do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a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v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ve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ee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ll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rien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a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i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ga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o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rea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a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el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ous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I’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i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jum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g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i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ne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n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a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tt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i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i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th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u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u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ne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mo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nev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of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onl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a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oi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s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choo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co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nten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h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lee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p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way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ti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tud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u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ak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n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r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roug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1:42:11Z</dcterms:created>
  <dc:creator>Wichita Public Schools</dc:creator>
  <dc:description/>
  <dc:language>en-US</dc:language>
  <cp:lastModifiedBy>wps</cp:lastModifiedBy>
  <dcterms:modified xsi:type="dcterms:W3CDTF">2008-09-18T14:14:16Z</dcterms:modified>
  <cp:revision>12</cp:revision>
  <dc:subject/>
  <dc:title>Slide 1</dc:title>
</cp:coreProperties>
</file>