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CED-9F7B-4DDD-8285-F988764B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930-F3C3-468E-A3C7-9FDFD6B3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E80-DA08-46E2-A683-843A0B23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1FE-CE34-42EC-A4DD-3385FE3E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6A5-777E-4EDF-A848-0D9ED72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ACF-D55B-4CBB-A55E-D458F31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5C9-FA90-42A5-99ED-4DA6559B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0B2-B178-4EEF-89FB-E7DD808A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359-5CC5-4044-A5EB-ECA752B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BC4-B7F9-43EF-9F39-8F6BC173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82E-8520-4544-81B2-FFDF9713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5A9-B69F-4B6A-A9E9-4D0F56C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BE8-1F96-471C-9025-AC7EC7641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etting to know your teac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1676520"/>
            <a:ext cx="45813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Ms. Mosima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  <p:sp>
        <p:nvSpPr>
          <p:cNvPr id="43" name=""/>
          <p:cNvSpPr/>
          <p:nvPr/>
        </p:nvSpPr>
        <p:spPr>
          <a:xfrm>
            <a:off x="6384960" y="384660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oper Black"/>
              </a:rPr>
              <a:t>My Graduation Day from Friends this summ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61648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0448600">
            <a:off x="934560" y="4846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ll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am the oldest of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graduated from High School in 2000 from Sedgwick H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went to KU for a about 3 months and then moved back home to go to school at Wichita State where I received my Bachelor of Arts in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recently graduated AGAIN from Friends University with my Masters of Arts in Teaching!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6305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I am 26 years old and I am the small one in th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big tall, hairy guy in the back is my 25 year old brother, Ty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retty blonde in the front is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19 year old sister,Taw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younge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boy in the front.  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anner and he’s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My parents, M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Karen are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51 years old, but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ren’t in this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812880" cy="83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Hobb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read when I h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TO SH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enjoy relaxing in front of the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watching KU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work out at the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truly love spending time with my family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845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Life as a 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ing keeps me very busy!  I really enjoy getting to know all of my students and sharing stories about when I was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my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year teaching here at Dodge.  I taught third grade before moving down to second.  After teach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for three years, I can honestly say that it’s definitely my favo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elcome to my classr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220800">
            <a:off x="-837720" y="1523880"/>
            <a:ext cx="9639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It's going t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be a GREAT year!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</p:spTree>
  </p:cSld>
  <p:transition spd="med" advTm="15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3:18:35Z</dcterms:created>
  <dc:creator>wps</dc:creator>
  <dc:description/>
  <dc:language>en-US</dc:language>
  <cp:lastModifiedBy>wps</cp:lastModifiedBy>
  <dcterms:modified xsi:type="dcterms:W3CDTF">2008-08-12T15:16:44Z</dcterms:modified>
  <cp:revision>11</cp:revision>
  <dc:subject/>
  <dc:title>Getting to know your teacher…</dc:title>
</cp:coreProperties>
</file>