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8447-5775-4AF3-88F6-7E65EF6A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EFD7-2251-4B44-9227-58F06D281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333B-668C-43A4-90D6-92FCA21C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81310-9F9A-474B-823A-C15F2F23D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B8A3-399B-47A1-B3D5-A40866D93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8A17-AC3C-4567-8EC1-19650CB4E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E72D-4BB5-4E1F-B6C1-130EF9C6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681-2755-4A3D-99A2-C7933C84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1AA6-DE9B-4DE2-AF61-E88ADABE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74D5-DCC1-485E-9DF8-188350F28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EA1C-2F26-43E1-A69C-76F5A1E9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5437-DE68-4AEE-A62C-393E586D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2A00-C87F-49E6-811E-6A2EDBED7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Getting to know your teach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286000" y="1676520"/>
            <a:ext cx="4581360" cy="21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Kristen ITC"/>
              </a:rPr>
              <a:t>Ms. Mosiman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Kristen ITC"/>
              <a:ea typeface="Kristen ITC"/>
            </a:endParaRPr>
          </a:p>
        </p:txBody>
      </p:sp>
      <p:sp>
        <p:nvSpPr>
          <p:cNvPr id="43" name=""/>
          <p:cNvSpPr/>
          <p:nvPr/>
        </p:nvSpPr>
        <p:spPr>
          <a:xfrm>
            <a:off x="6384960" y="3846600"/>
            <a:ext cx="1387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oper Black"/>
              </a:rPr>
              <a:t>My Graduation Day from Friends this summe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3225960" cy="241920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cover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867280" y="4572000"/>
            <a:ext cx="2616480" cy="1798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 rot="20448600">
            <a:off x="934560" y="48466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All About M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am the oldest of 4 childr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graduated from High School in 2000 from Sedgwick H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went to KU for a about 3 months and then moved back home to go to school at Wichita State where I received my Bachelor of Arts in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Kristen ITC"/>
              </a:rPr>
              <a:t>I recently graduated AGAIN from Friends University with my Masters of Arts in Teaching!</a:t>
            </a: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2630520" cy="350532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My Famil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I am 26 years old and I am the small one in the bac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big tall, hairy guy in the back is my 25 year old brother, Tyl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pretty blonde in the front is 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19 year old sister,Tawn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he youngest is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boy in the front.  That’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Tanner and he’s 1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My parents, M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and Karen are b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51 years old, but th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Kristen ITC"/>
              </a:rPr>
              <a:t>aren’t in this pi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15200" y="1066680"/>
            <a:ext cx="1100160" cy="1143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812880" cy="8384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My Hobbi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ike to read when I have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OVE TO SHOP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enjoy relaxing in front of the t.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ove watching KU basketba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like to work out at the gy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Kristen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Kristen ITC"/>
              </a:rPr>
              <a:t>I truly love spending time with my family and frie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648320" y="5105520"/>
            <a:ext cx="2133360" cy="16002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1600200" cy="12002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809880" y="4800600"/>
            <a:ext cx="1384560" cy="175248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Life as a Teac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eaching keeps me very busy!  I really enjoy getting to know all of my students and sharing stories about when I was litt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This is my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risten ITC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year teaching here at Dodge.  I taught third grade before moving down to second.  After teaching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Kristen ITC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Kristen ITC"/>
              </a:rPr>
              <a:t> for three years, I can honestly say that it’s definitely my favorit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5000">
    <p:cover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risten ITC"/>
              </a:rPr>
              <a:t>Welcome to my classroom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 rot="21220800">
            <a:off x="-837720" y="1523880"/>
            <a:ext cx="9639360" cy="4876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Kristen ITC"/>
              </a:rPr>
              <a:t>It's going to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Kristen ITC"/>
              <a:ea typeface="Kristen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Kristen ITC"/>
              </a:rPr>
              <a:t> </a:t>
            </a: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Kristen ITC"/>
              </a:rPr>
              <a:t>be a GREAT year!!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Kristen ITC"/>
              <a:ea typeface="Kristen ITC"/>
            </a:endParaRPr>
          </a:p>
        </p:txBody>
      </p:sp>
    </p:spTree>
  </p:cSld>
  <p:transition spd="med" advTm="15000">
    <p:cover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4T03:18:35Z</dcterms:created>
  <dc:creator>wps</dc:creator>
  <dc:description/>
  <dc:language>en-US</dc:language>
  <cp:lastModifiedBy>wps</cp:lastModifiedBy>
  <dcterms:modified xsi:type="dcterms:W3CDTF">2008-08-12T15:16:44Z</dcterms:modified>
  <cp:revision>11</cp:revision>
  <dc:subject/>
  <dc:title>Getting to know your teacher…</dc:title>
</cp:coreProperties>
</file>